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79B-0577-4484-900A-591AFB7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3842280"/>
            <a:ext cx="856908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B0C-7BF1-4F1D-B482-C9042758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480" y="177336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384228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480" y="384228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104-F65E-47D7-A946-CEBF8E1E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27590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773360"/>
            <a:ext cx="27590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5480" y="1773360"/>
            <a:ext cx="27590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3842280"/>
            <a:ext cx="27590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3842280"/>
            <a:ext cx="27590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5480" y="3842280"/>
            <a:ext cx="27590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799-7956-412C-90D0-93FEC2BB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559-E1E9-4F93-A424-FC58F17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D8A-7E4A-4481-A09C-66A817F5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181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480" y="1773360"/>
            <a:ext cx="4181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F54-C4A6-40FA-BA01-B011D38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238-1951-4E4D-855F-00A9ABF9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56908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3A9-2E04-42DF-A9FF-42A535A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773360"/>
            <a:ext cx="4181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384228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431-9263-4888-8D25-60B2D0F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181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77336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480" y="384228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0FB-78E8-484D-9828-29BF873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773360"/>
            <a:ext cx="4181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3842280"/>
            <a:ext cx="856908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844-8D99-42C1-A4AD-77BB909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692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 Heath, KMi, 17 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35280" y="5877000"/>
            <a:ext cx="33987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920" y="6165720"/>
            <a:ext cx="43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AD5E-F73A-4BA8-996A-3575076B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80360" y="5950080"/>
            <a:ext cx="1355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yond Searching and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pporting User Tasks and Context on the Semantic Web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task-focused classification of user actions on th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628640"/>
            <a:ext cx="7993080" cy="39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 object or chunk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ion: inwards. target: obj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ify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s of an event or change i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ion: outwards. target: peopl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rang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something will take place or be possible at a certa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ion: two-way. target: event in tim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84360" y="333360"/>
          <a:ext cx="7634160" cy="55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3416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55640" y="476280"/>
          <a:ext cx="759636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5963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ploiting the user’s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task-focused tools may reduce complexity for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account of context may reduce it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ser doesn’t exist in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ize doesn’t fi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account of Matt’s context helps with performing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m has been to Slovenia before on holiday and gives Matt crucial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m’s past history and his relationship to Matt are a part of Matt’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fining user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1916280"/>
            <a:ext cx="223236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mily friends collea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284640"/>
            <a:ext cx="2232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t actions and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4724280"/>
            <a:ext cx="24480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ople services organ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1916280"/>
            <a:ext cx="2232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s opin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3284640"/>
            <a:ext cx="2232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e money attention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4726080"/>
            <a:ext cx="2232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ysical geograph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84360" y="2637000"/>
            <a:ext cx="216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03640" y="2276280"/>
            <a:ext cx="201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2637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4005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659640" y="4005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995280" y="3716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upporting user tasks and context on the Semantic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91628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plans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-focused, context aware tool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arranging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ing account of a user’s community and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ed using Semantic Web technologi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represent context, support reaso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rching and browsing is not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-focused tools may help reduce complex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so may user’s context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mantic Web could provide the technical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ank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details in my mid-year report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mi.open.ac.uk/people/tom/phd/midyearreport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ome typical uses of th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00200" cy="190368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  <p:sp>
        <p:nvSpPr>
          <p:cNvPr id="46" name=""/>
          <p:cNvSpPr/>
          <p:nvPr/>
        </p:nvSpPr>
        <p:spPr>
          <a:xfrm>
            <a:off x="4140360" y="16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5840" y="1649520"/>
            <a:ext cx="28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5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ating som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ome typical uses of th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208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00200" cy="190368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  <p:sp>
        <p:nvSpPr>
          <p:cNvPr id="52" name=""/>
          <p:cNvSpPr/>
          <p:nvPr/>
        </p:nvSpPr>
        <p:spPr>
          <a:xfrm>
            <a:off x="2700360" y="393372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ring new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5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Locating som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3426120" cy="190512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ome typical uses of th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208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00200" cy="190368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  <p:sp>
        <p:nvSpPr>
          <p:cNvPr id="58" name=""/>
          <p:cNvSpPr/>
          <p:nvPr/>
        </p:nvSpPr>
        <p:spPr>
          <a:xfrm>
            <a:off x="2700360" y="393372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Exploring new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35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Locating som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3426120" cy="190512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600360" cy="211932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  <p:sp>
        <p:nvSpPr>
          <p:cNvPr id="62" name=""/>
          <p:cNvSpPr/>
          <p:nvPr/>
        </p:nvSpPr>
        <p:spPr>
          <a:xfrm>
            <a:off x="5651640" y="450864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cuss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d some typical tools we u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browsers for display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erlinks for linking them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rch engines for sifting through them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t not all tasks we perform (or would like to perform) are well supported by these to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331640" cy="53208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703440" cy="93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3746520" cy="546120"/>
          </a:xfrm>
          <a:prstGeom prst="rect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tt is arranging to go to the IFS2005 conference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141720"/>
            <a:ext cx="1366920" cy="358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4941720"/>
            <a:ext cx="230508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492280"/>
            <a:ext cx="143964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060640"/>
            <a:ext cx="25704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ference: IFS2005, Slov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35280" y="2923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779560"/>
            <a:ext cx="136656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3141720"/>
            <a:ext cx="934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3284640"/>
            <a:ext cx="64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2492280"/>
            <a:ext cx="935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jublj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645000"/>
            <a:ext cx="1223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70828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292428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285264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8000" y="2924280"/>
            <a:ext cx="0" cy="19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00720" y="270828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3716280"/>
            <a:ext cx="647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4149720"/>
            <a:ext cx="647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3573360"/>
            <a:ext cx="934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060640"/>
            <a:ext cx="935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nic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19640" y="3141720"/>
            <a:ext cx="64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3573360"/>
            <a:ext cx="647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4005360"/>
            <a:ext cx="6494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2349360"/>
            <a:ext cx="1152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st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989000"/>
            <a:ext cx="1152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using current web too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1557360"/>
            <a:ext cx="3311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erenc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557360"/>
            <a:ext cx="2664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781360"/>
            <a:ext cx="33116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292640"/>
            <a:ext cx="33116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1"/>
            <a:endCxn id="97" idx="1"/>
          </p:cNvCxnSpPr>
          <p:nvPr/>
        </p:nvCxnSpPr>
        <p:spPr>
          <a:xfrm flipH="1" flipV="1" rot="10800000">
            <a:off x="538560" y="1846080"/>
            <a:ext cx="577080" cy="1583280"/>
          </a:xfrm>
          <a:prstGeom prst="bentConnector3">
            <a:avLst>
              <a:gd name="adj1" fmla="val -396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6" idx="1"/>
            <a:endCxn id="98" idx="1"/>
          </p:cNvCxnSpPr>
          <p:nvPr/>
        </p:nvCxnSpPr>
        <p:spPr>
          <a:xfrm flipH="1" flipV="1" rot="10800000">
            <a:off x="538560" y="1846080"/>
            <a:ext cx="577080" cy="3240720"/>
          </a:xfrm>
          <a:prstGeom prst="bentConnector3">
            <a:avLst>
              <a:gd name="adj1" fmla="val -396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3059280" y="3716280"/>
            <a:ext cx="1008000" cy="289080"/>
          </a:xfrm>
          <a:prstGeom prst="rect">
            <a:avLst/>
          </a:prstGeom>
          <a:noFill/>
          <a:ln cap="rnd" w="5724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ir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5516640"/>
            <a:ext cx="1008360" cy="28872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ir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516640"/>
            <a:ext cx="1008000" cy="28872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508640"/>
            <a:ext cx="1008000" cy="28872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4653000"/>
            <a:ext cx="1008000" cy="28872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2852640"/>
            <a:ext cx="1008000" cy="289080"/>
          </a:xfrm>
          <a:prstGeom prst="rect">
            <a:avLst/>
          </a:prstGeom>
          <a:noFill/>
          <a:ln cap="rnd" w="5724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084640"/>
            <a:ext cx="1008000" cy="28908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5084640"/>
            <a:ext cx="1008000" cy="28908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3357720"/>
            <a:ext cx="1008000" cy="288720"/>
          </a:xfrm>
          <a:prstGeom prst="rect">
            <a:avLst/>
          </a:prstGeom>
          <a:noFill/>
          <a:ln cap="rnd" w="3816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3284640"/>
            <a:ext cx="1008000" cy="288720"/>
          </a:xfrm>
          <a:prstGeom prst="rect">
            <a:avLst/>
          </a:prstGeom>
          <a:noFill/>
          <a:ln cap="rnd" w="5724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148428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 as gateways to web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8099280" y="3448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88200" y="157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419640" y="2133720"/>
            <a:ext cx="1800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19640" y="2133720"/>
            <a:ext cx="180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924360" y="2133720"/>
            <a:ext cx="12952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61200" y="28368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93080" y="155736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sk-focused tools: a solutio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rly not all tasks are very easy to perform using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hoosing the best way to get to the conference requires a lot of searches and manual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tools need to be more task-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Google will find you an airline web site but it won’t get you a 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hat sort of tasks do people perform any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assifications of user actions on th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mainly conceptualised tasks as forms of searching and brow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chionini (1995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c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midirec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irected brow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ha, McCool and Miller (2003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vigat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der (2002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vigat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act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se and Levinson (2004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vigat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rison, Pirolli and Card (2001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ind, compare/choose, understand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plore, monitor, find, co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 Heath</cp:lastModifiedBy>
  <dcterms:modified xsi:type="dcterms:W3CDTF">2005-03-17T12:26:59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363776</vt:r8>
  </property>
  <property fmtid="{D5CDD505-2E9C-101B-9397-08002B2CF9AE}" pid="3" name="_AuthorEmail">
    <vt:lpwstr>th2499@openmail.open.ac.uk</vt:lpwstr>
  </property>
  <property fmtid="{D5CDD505-2E9C-101B-9397-08002B2CF9AE}" pid="4" name="_AuthorEmailDisplayName">
    <vt:lpwstr>T.Heath</vt:lpwstr>
  </property>
  <property fmtid="{D5CDD505-2E9C-101B-9397-08002B2CF9AE}" pid="5" name="_EmailSubject">
    <vt:lpwstr>Podium Replay 17th March</vt:lpwstr>
  </property>
</Properties>
</file>